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LASER.WAV" ContentType="audio/x-wav"/>
  <Override PartName="/ppt/media/WHOOSH.WAV" ContentType="audio/x-wav"/>
  <Override PartName="/ppt/media/image9.gif" ContentType="image/gif"/>
  <Override PartName="/ppt/media/image2.wmf" ContentType="image/x-wmf"/>
  <Override PartName="/ppt/media/carbrake.wav" ContentType="audio/x-wav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173-7E1F-413F-A305-7CCAB472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948-FD65-4399-9EC6-519E839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489-9654-4384-8DAF-308B1243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604-8F03-48C1-8057-A00C41FC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182-4D95-48FA-9459-9E7FFEC2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CE5-0926-497F-8A93-7C2219D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1BC-1FA8-47F9-8CBE-8F2D6F2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D30-4AA7-4BDF-84C2-BDDCB7A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1A9-EEB7-47D5-8265-ADEBDFE6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5C2-784A-44E6-9ECE-BD7A266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E3B-23A4-4E84-AB05-1AA3431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3DD-2B74-4ED3-87F6-B68EEBC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1AB-F657-41C1-8766-219D0C96F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th grade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ol Rol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 Ele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c:\Program Files\Microsoft Office\Clipart\WebArt\bd13738_.gif"/>
          <p:cNvPicPr/>
          <p:nvPr/>
        </p:nvPicPr>
        <p:blipFill>
          <a:blip r:embed="rId1"/>
          <a:stretch/>
        </p:blipFill>
        <p:spPr>
          <a:xfrm>
            <a:off x="4114800" y="320040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ulator is a material that does not transfer heat easi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s and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90720" y="83808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ulator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7" descr="c:\Program Files\Microsoft Office\Clipart\homeanim\ag00421_.gif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3465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kinetic energy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838080" y="6094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MPERATUR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6" descr="c:\Program Files\Microsoft Office\Clipart\standard\stddir2\bd07248_.wmf"/>
          <p:cNvPicPr/>
          <p:nvPr/>
        </p:nvPicPr>
        <p:blipFill>
          <a:blip r:embed="rId1"/>
          <a:stretch/>
        </p:blipFill>
        <p:spPr>
          <a:xfrm>
            <a:off x="760320" y="1981080"/>
            <a:ext cx="366084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ment related to the quantity of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14400" y="762120"/>
            <a:ext cx="7543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rmal Energ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6" descr="c:\Program Files\Microsoft Office\Clipart\corpbas\bd19704_.wmf"/>
          <p:cNvPicPr/>
          <p:nvPr/>
        </p:nvPicPr>
        <p:blipFill>
          <a:blip r:embed="rId1"/>
          <a:stretch/>
        </p:blipFill>
        <p:spPr>
          <a:xfrm>
            <a:off x="4648320" y="2166840"/>
            <a:ext cx="3809880" cy="374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energy always moves from warmer to cool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is the result of molecules vibrating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is moving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762120" y="0"/>
            <a:ext cx="7467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nsfer of heat by direct contact between objects or part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1066680" y="1066680"/>
            <a:ext cx="7086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duc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7" descr="c:\Program Files\Microsoft Office\Clipart\homeanim\ag00057_.gif"/>
          <p:cNvPicPr/>
          <p:nvPr/>
        </p:nvPicPr>
        <p:blipFill>
          <a:blip r:embed="rId1"/>
          <a:stretch/>
        </p:blipFill>
        <p:spPr>
          <a:xfrm>
            <a:off x="1095480" y="1981080"/>
            <a:ext cx="29908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transferred throug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sun’s rays causing a sun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990720" y="838080"/>
            <a:ext cx="43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adia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Picture 7" descr="c:\Program Files\Microsoft Office\Clipart\homeanim\ag00433_.gif"/>
          <p:cNvPicPr/>
          <p:nvPr/>
        </p:nvPicPr>
        <p:blipFill>
          <a:blip r:embed="rId1"/>
          <a:stretch/>
        </p:blipFill>
        <p:spPr>
          <a:xfrm>
            <a:off x="4343400" y="1219320"/>
            <a:ext cx="48006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transferred by the movement of molecules within a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occurs from warmer areas to cooler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85800" y="380880"/>
            <a:ext cx="79246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nve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9" descr="c:\Program Files\Microsoft Office\Clipart\homeanim\ag00334_.gif"/>
          <p:cNvPicPr/>
          <p:nvPr/>
        </p:nvPicPr>
        <p:blipFill>
          <a:blip r:embed="rId1"/>
          <a:stretch/>
        </p:blipFill>
        <p:spPr>
          <a:xfrm>
            <a:off x="533520" y="266688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vement of a substance that is caused by differences in temperature and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wind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iling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W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TO BALANCE 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762120" y="685800"/>
            <a:ext cx="7619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nvection Curr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5" descr="c:\Program Files\Microsoft Office\Clipart\homeanim\ag00034_.gif"/>
          <p:cNvPicPr/>
          <p:nvPr/>
        </p:nvPicPr>
        <p:blipFill>
          <a:blip r:embed="rId1"/>
          <a:stretch/>
        </p:blipFill>
        <p:spPr>
          <a:xfrm>
            <a:off x="6705720" y="3048120"/>
            <a:ext cx="2438280" cy="3809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ors are materials that transfer heat eas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metals like copper and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219320" y="0"/>
            <a:ext cx="710568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duct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4" name="Picture 16" descr="c:\Program Files\Microsoft Office\Clipart\WebArt\bd13742_.gif"/>
          <p:cNvPicPr/>
          <p:nvPr/>
        </p:nvPicPr>
        <p:blipFill>
          <a:blip r:embed="rId1"/>
          <a:stretch/>
        </p:blipFill>
        <p:spPr>
          <a:xfrm>
            <a:off x="0" y="1981080"/>
            <a:ext cx="53341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8:24:15Z</dcterms:created>
  <dc:creator>Cuba Elementary</dc:creator>
  <dc:description/>
  <dc:language>en-US</dc:language>
  <cp:lastModifiedBy>live2dance</cp:lastModifiedBy>
  <dcterms:modified xsi:type="dcterms:W3CDTF">2011-02-14T14:21:17Z</dcterms:modified>
  <cp:revision>9</cp:revision>
  <dc:subject/>
  <dc:title>Thermal Energy</dc:title>
</cp:coreProperties>
</file>